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7DC-35D1-4FC9-A726-2CAB4008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401-D48A-42E4-81A2-43DD768C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42D-A684-424A-BC78-5605EA15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84D-3FFA-40C9-A9FB-FEDD638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3B94-CE44-43BF-9068-887BD664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878-A6A5-4C5C-82DC-4F0F5D1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8B5-4866-43A1-AABF-F446778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7191-8651-4928-9DC4-DDB170CA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C8F-79A5-4D8B-962B-065445A9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F0B-E176-4478-A391-B087AF46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CE6-DE21-4324-8B23-4E9AB35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97F-C808-4E48-81AE-2FC0105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C1E-43B6-4400-8037-764E67D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1FBD-F4F4-4D24-B37F-C6D1BBF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84D-9989-465C-8133-8EFC478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362-C815-48AF-8F28-B3DCED69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F4E-8F2F-437F-8158-85B8D597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CB5-80D4-4482-BED2-5B6A6D41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764-FF58-4984-ADB7-848330C3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A2E-9B0E-4BDD-9819-DD620BB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F9E-D49D-4CCF-A923-9618435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E57-A7C8-4593-B36A-A047D64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620-BEBC-4C67-9F78-3EA4DBA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FBD-AB1F-4D70-A3C0-B18CE05B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4F5-46B2-40AF-A3A6-C59C75FD1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1CB0-58F7-4BEE-BCFA-9A392E697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lim69.com/images/home-design-saota-nettleton-198-beautifully-modern-home-in-clifton-south-africa-modern-living-room-and-cool-infinity-pool-designs_f206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Mi Ca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2680" y="62485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por: Nicole Abba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715000" cy="382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28954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garaje. El garaje es mui grande y magni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Mansi</a:t>
            </a:r>
            <a:r>
              <a:rPr b="1" lang="en-US" sz="4400" spc="-1" strike="noStrike">
                <a:solidFill>
                  <a:srgbClr val="feec94"/>
                </a:solidFill>
                <a:latin typeface="Papyrus"/>
                <a:ea typeface="Arial"/>
              </a:rPr>
              <a:t>ó</a:t>
            </a: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79840" y="1754280"/>
            <a:ext cx="5106960" cy="3836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30481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Es una mansi</a:t>
            </a:r>
            <a:r>
              <a:rPr b="0" lang="en-US" sz="2000" spc="-1" strike="noStrike">
                <a:solidFill>
                  <a:srgbClr val="ffffff"/>
                </a:solidFill>
                <a:latin typeface="Papyrus"/>
                <a:ea typeface="Arial"/>
              </a:rPr>
              <a:t>ón. La mansión es muy grande y magn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72520" cy="4000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29000" y="54100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a cocina. La cocina es increible y estupen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238880" y="22096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comedor. El comedor es moderno y fabil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Home Design, SAOTA Nettleton 198: Beautifully Modern Home in Clifton, South Africa: Modern Living Room And Cool Infinity Pool Desig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971800"/>
            <a:ext cx="5533920" cy="360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a sala. La sala es nueva y b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Ba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76880" cy="415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2971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baño. El baño es grande y luj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76880" cy="329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cuarto. El cuarto es fabuloso y mode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953240" cy="3709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9920" y="3733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patio. El patio es grande y mode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Jard</a:t>
            </a: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í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791320" cy="385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81280" y="1828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jardín. El jardín es grande y bon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9:09Z</dcterms:created>
  <dc:creator>abbatinenic</dc:creator>
  <dc:description/>
  <dc:language>en-US</dc:language>
  <cp:lastModifiedBy>abbatinenic</cp:lastModifiedBy>
  <dcterms:modified xsi:type="dcterms:W3CDTF">2012-10-26T17:03:09Z</dcterms:modified>
  <cp:revision>11</cp:revision>
  <dc:subject/>
  <dc:title>Mi Casa</dc:title>
</cp:coreProperties>
</file>